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FE86-F466-4C2C-A336-6CC72EE8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outdarwin.com/voyage/voyage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Glyptodon-Armadill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laeos.org/Hom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pix/analogo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k from website: http://faculty.fmcc.suny.edu/mcdarby/BIO171Book/02-Concepts/02-Taxonomy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nswersingenesis.org/natural-selection/natural-selection-vs-evolu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AB4-DE44-49B4-A3FD-3FD8C5F5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37E-ED79-49E2-A9BC-B42765D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0B1-9142-4DA8-B06D-D42F90FA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36C-9762-4BB2-9DBF-EDB28670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659-6411-4B7E-91EE-E1291477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EC0-62F1-43E5-8E20-2E20F40D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FCD-52EA-462C-9D49-5BAF9066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36B-480B-4FC0-9A89-480AB1D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069-63D1-4476-B65F-C6EB505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DC4-8FC9-4E4E-9B28-B75DD432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3E2-35F6-4A8A-812C-2221AA4C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B1B-0BB1-4A6E-8D65-3A4A17C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232A-1298-436B-97F2-9F61E34F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wgbh/evolution/educators/teachstuds/svideo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-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290600"/>
            <a:ext cx="84582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s of ancestral species that resembled modern species &amp; had similar geographic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is video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wgbh/evolution/educators/teachstuds/svideo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96000" y="1600200"/>
            <a:ext cx="354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logou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agou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360" y="1676520"/>
            <a:ext cx="822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tigi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4-11-18T14:54:46Z</dcterms:modified>
  <cp:revision>45</cp:revision>
  <dc:subject/>
  <dc:title>Evidence for Evolution</dc:title>
</cp:coreProperties>
</file>